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8472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7560" y="4711680"/>
            <a:ext cx="8472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7560" y="471168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28800" y="471168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2080" y="222372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16600" y="222372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7560" y="471168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2080" y="471168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16600" y="471168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7560" y="2223720"/>
            <a:ext cx="8472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8472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11736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7560" y="471168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28800" y="471168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7560" y="4711680"/>
            <a:ext cx="8472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7560" y="2223720"/>
            <a:ext cx="8472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43200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43200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55640" indent="-43164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240680" y="6381720"/>
            <a:ext cx="259056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057400" y="4572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hallenges to adoption of Social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523960" y="2514600"/>
            <a:ext cx="5029200" cy="37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7480" y="1117440"/>
            <a:ext cx="860112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 of scope of this talk, but this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http://red.csie.ntu.edu.tw/demo/art/CSM/img/Morphing.jpg"/>
          <p:cNvPicPr/>
          <p:nvPr/>
        </p:nvPicPr>
        <p:blipFill>
          <a:blip r:embed="rId1"/>
          <a:stretch/>
        </p:blipFill>
        <p:spPr>
          <a:xfrm>
            <a:off x="1798560" y="2268360"/>
            <a:ext cx="53755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raining and Champion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7840" y="1584360"/>
            <a:ext cx="4897440" cy="46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is important to most users. Some will take a wiki like ducks to water, but most will want some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mpions help in a less formal way. Champions have an ongoing, part-time r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http://www.kingcityrustler.com/Pictures/2007/01-2007/OnitsukaUSA%20champone.jpg"/>
          <p:cNvPicPr/>
          <p:nvPr/>
        </p:nvPicPr>
        <p:blipFill>
          <a:blip r:embed="rId1"/>
          <a:stretch/>
        </p:blipFill>
        <p:spPr>
          <a:xfrm>
            <a:off x="5702400" y="1044720"/>
            <a:ext cx="38894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arriers to Adoption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r Lockdow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d at wikipatterns.com as an anti-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94200" y="4068720"/>
            <a:ext cx="3011400" cy="3011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686560" y="1117440"/>
            <a:ext cx="4095720" cy="27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doption Pattern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360" y="1955880"/>
            <a:ext cx="88725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two typical ways that Social Media spreads in an organi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have some component of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doption Pattern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6200" y="1477440"/>
            <a:ext cx="86565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457920" indent="-393120" algn="ctr">
              <a:lnSpc>
                <a:spcPct val="8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'Viral' or 'organic' sprea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94200" y="2197080"/>
            <a:ext cx="3384360" cy="45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doption Pattern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1955880"/>
            <a:ext cx="858492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 down, organisationally sponso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8560" y="3637080"/>
            <a:ext cx="5877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arriers to Adoption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ational inerti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training or champ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 Lock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34322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arriers to Adoption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to get the right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34322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arriers to Adoption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9248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 little is confusing</a:t>
            </a:r>
            <a:br>
              <a:rPr sz="32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here do I put my stuff?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2200" y="2989440"/>
            <a:ext cx="4095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arriers to Adoption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260360"/>
            <a:ext cx="92487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 much is constri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 don’t fit in t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61840" y="2629080"/>
            <a:ext cx="88506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arriers to Adoption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ational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level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ion of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http://www.museums.norfolk.gov.uk/img/elephant.jpg"/>
          <p:cNvPicPr/>
          <p:nvPr/>
        </p:nvPicPr>
        <p:blipFill>
          <a:blip r:embed="rId1"/>
          <a:stretch/>
        </p:blipFill>
        <p:spPr>
          <a:xfrm>
            <a:off x="6046920" y="1477800"/>
            <a:ext cx="3114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ptop2</cp:lastModifiedBy>
  <dcterms:modified xsi:type="dcterms:W3CDTF">2007-05-28T03:10:57Z</dcterms:modified>
  <cp:revision>4</cp:revision>
  <dc:subject/>
  <dc:title>Slide 1</dc:title>
</cp:coreProperties>
</file>